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349-6D30-405E-91C7-299C4B74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7EF-F24C-4BD7-AE44-23686C81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6AF-9AAE-486E-B114-B3DD52CA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B36-5C6F-4737-876B-7976FA0A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B4C-F22F-4145-8023-A92E73CD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4A7-708C-455D-932A-7DE7283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450-186B-4BCE-8F09-514CEFF8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541-78D8-4C4E-BD17-469F631B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BBC-2CFB-4463-B329-484C2F87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3A2-D3D6-4FB2-A529-0FA2D7E9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D96-A6E5-494B-A7ED-DC17A0AD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2CD-124C-475D-BEB3-483ADF0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E7DC-D452-4DF3-B4E2-A45D541B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7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8.png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4.png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2.png"/><Relationship Id="rId29" Type="http://schemas.openxmlformats.org/officeDocument/2006/relationships/image" Target="../media/image1.jpeg"/><Relationship Id="rId30" Type="http://schemas.openxmlformats.org/officeDocument/2006/relationships/oleObject" Target="../embeddings/oleObject13.bin"/><Relationship Id="rId31" Type="http://schemas.openxmlformats.org/officeDocument/2006/relationships/image" Target="../media/image3.png"/><Relationship Id="rId32" Type="http://schemas.openxmlformats.org/officeDocument/2006/relationships/oleObject" Target="../embeddings/oleObject14.bin"/><Relationship Id="rId33" Type="http://schemas.openxmlformats.org/officeDocument/2006/relationships/image" Target="../media/image4.png"/><Relationship Id="rId34" Type="http://schemas.openxmlformats.org/officeDocument/2006/relationships/oleObject" Target="../embeddings/oleObject15.bin"/><Relationship Id="rId35" Type="http://schemas.openxmlformats.org/officeDocument/2006/relationships/image" Target="../media/image4.png"/><Relationship Id="rId36" Type="http://schemas.openxmlformats.org/officeDocument/2006/relationships/oleObject" Target="../embeddings/oleObject16.bin"/><Relationship Id="rId37" Type="http://schemas.openxmlformats.org/officeDocument/2006/relationships/image" Target="../media/image9.png"/><Relationship Id="rId38" Type="http://schemas.openxmlformats.org/officeDocument/2006/relationships/image" Target="../media/image6.png"/><Relationship Id="rId39" Type="http://schemas.openxmlformats.org/officeDocument/2006/relationships/image" Target="../media/image5.png"/><Relationship Id="rId40" Type="http://schemas.openxmlformats.org/officeDocument/2006/relationships/image" Target="../media/image3.png"/><Relationship Id="rId41" Type="http://schemas.openxmlformats.org/officeDocument/2006/relationships/image" Target="../media/image6.png"/><Relationship Id="rId42" Type="http://schemas.openxmlformats.org/officeDocument/2006/relationships/image" Target="../media/image10.jpeg"/><Relationship Id="rId43" Type="http://schemas.openxmlformats.org/officeDocument/2006/relationships/image" Target="../media/image10.jpeg"/><Relationship Id="rId4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740720" y="3068640"/>
            <a:ext cx="541440" cy="5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3203640" y="3068640"/>
          <a:ext cx="595080" cy="74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3068640"/>
                    <a:ext cx="5950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916360" y="3355920"/>
          <a:ext cx="325440" cy="62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3355920"/>
                    <a:ext cx="3254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060720" y="4365720"/>
          <a:ext cx="750960" cy="87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60720" y="4365720"/>
                    <a:ext cx="750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1116000" y="2997360"/>
            <a:ext cx="282600" cy="776880"/>
            <a:chOff x="1116000" y="2997360"/>
            <a:chExt cx="282600" cy="776880"/>
          </a:xfrm>
        </p:grpSpPr>
        <p:sp>
          <p:nvSpPr>
            <p:cNvPr id="49" name=""/>
            <p:cNvSpPr/>
            <p:nvPr/>
          </p:nvSpPr>
          <p:spPr>
            <a:xfrm>
              <a:off x="1219320" y="2997360"/>
              <a:ext cx="179280" cy="77580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234800" y="3025080"/>
              <a:ext cx="145800" cy="15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146960" y="3754440"/>
              <a:ext cx="137160" cy="19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116000" y="3628440"/>
              <a:ext cx="122400" cy="6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flipV="1">
              <a:off x="1116000" y="3504240"/>
              <a:ext cx="131760" cy="10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1221120" y="3242880"/>
              <a:ext cx="141480" cy="47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245600" y="3140280"/>
              <a:ext cx="108720" cy="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1176480" y="3356640"/>
              <a:ext cx="113760" cy="36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135800" y="3988080"/>
            <a:ext cx="321480" cy="807120"/>
            <a:chOff x="1135800" y="3988080"/>
            <a:chExt cx="321480" cy="807120"/>
          </a:xfrm>
        </p:grpSpPr>
        <p:sp>
          <p:nvSpPr>
            <p:cNvPr id="58" name=""/>
            <p:cNvSpPr/>
            <p:nvPr/>
          </p:nvSpPr>
          <p:spPr>
            <a:xfrm rot="21057000">
              <a:off x="1217880" y="39970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180080" y="4018680"/>
              <a:ext cx="141840" cy="38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08880" y="4754160"/>
              <a:ext cx="132120" cy="410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156320" y="4636800"/>
              <a:ext cx="119880" cy="26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135800" y="45234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1198440" y="4258440"/>
              <a:ext cx="147240" cy="24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06360" y="4136400"/>
              <a:ext cx="10764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1172160" y="4377600"/>
              <a:ext cx="11808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8480" y="1968840"/>
            <a:ext cx="329760" cy="811800"/>
            <a:chOff x="1068480" y="1968840"/>
            <a:chExt cx="329760" cy="811800"/>
          </a:xfrm>
        </p:grpSpPr>
        <p:sp>
          <p:nvSpPr>
            <p:cNvPr id="67" name=""/>
            <p:cNvSpPr/>
            <p:nvPr/>
          </p:nvSpPr>
          <p:spPr>
            <a:xfrm rot="20918400">
              <a:off x="1144080" y="197856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093320" y="1999800"/>
              <a:ext cx="140040" cy="439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152000" y="2734200"/>
              <a:ext cx="130320" cy="46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094040" y="2619360"/>
              <a:ext cx="118800" cy="31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068480" y="2506320"/>
              <a:ext cx="131040" cy="15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1119600" y="2244600"/>
              <a:ext cx="148320" cy="18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123560" y="2117880"/>
              <a:ext cx="106560" cy="2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1098360" y="2364840"/>
              <a:ext cx="118800" cy="1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00000" y="981000"/>
            <a:ext cx="282600" cy="777600"/>
            <a:chOff x="900000" y="981000"/>
            <a:chExt cx="282600" cy="777600"/>
          </a:xfrm>
        </p:grpSpPr>
        <p:sp>
          <p:nvSpPr>
            <p:cNvPr id="76" name=""/>
            <p:cNvSpPr/>
            <p:nvPr/>
          </p:nvSpPr>
          <p:spPr>
            <a:xfrm>
              <a:off x="1003320" y="9810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18800" y="1009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30960" y="1738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00000" y="1612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900000" y="1488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005120" y="1226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29600" y="1124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960480" y="1340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967320" y="4947480"/>
            <a:ext cx="465840" cy="794880"/>
            <a:chOff x="967320" y="4947480"/>
            <a:chExt cx="465840" cy="794880"/>
          </a:xfrm>
        </p:grpSpPr>
        <p:sp>
          <p:nvSpPr>
            <p:cNvPr id="85" name=""/>
            <p:cNvSpPr/>
            <p:nvPr/>
          </p:nvSpPr>
          <p:spPr>
            <a:xfrm rot="1009800">
              <a:off x="1145160" y="49564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263600" y="4993560"/>
              <a:ext cx="144360" cy="27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967320" y="5670720"/>
              <a:ext cx="136800" cy="20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977760" y="5528880"/>
              <a:ext cx="119520" cy="28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015920" y="5403600"/>
              <a:ext cx="12276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192320" y="5183280"/>
              <a:ext cx="121320" cy="864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244880" y="5092920"/>
              <a:ext cx="104400" cy="30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16720" y="5279040"/>
              <a:ext cx="98280" cy="67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880920" y="5862600"/>
            <a:ext cx="282600" cy="777600"/>
            <a:chOff x="880920" y="5862600"/>
            <a:chExt cx="282600" cy="777600"/>
          </a:xfrm>
        </p:grpSpPr>
        <p:sp>
          <p:nvSpPr>
            <p:cNvPr id="94" name=""/>
            <p:cNvSpPr/>
            <p:nvPr/>
          </p:nvSpPr>
          <p:spPr>
            <a:xfrm>
              <a:off x="984240" y="58626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99720" y="58906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911880" y="66200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80920" y="64940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880920" y="63702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986040" y="61081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010520" y="60058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941400" y="62218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00000" y="0"/>
            <a:ext cx="282600" cy="777600"/>
            <a:chOff x="900000" y="0"/>
            <a:chExt cx="282600" cy="777600"/>
          </a:xfrm>
        </p:grpSpPr>
        <p:sp>
          <p:nvSpPr>
            <p:cNvPr id="103" name=""/>
            <p:cNvSpPr/>
            <p:nvPr/>
          </p:nvSpPr>
          <p:spPr>
            <a:xfrm>
              <a:off x="1003320" y="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018800" y="28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930960" y="757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900000" y="631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900000" y="507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1005120" y="245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029600" y="143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960480" y="359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64000" y="494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32000" y="2276640"/>
          <a:ext cx="750960" cy="87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32000" y="2276640"/>
                    <a:ext cx="750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83528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419640" y="1719360"/>
          <a:ext cx="620640" cy="55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19640" y="1719360"/>
                    <a:ext cx="620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060720" y="1771560"/>
          <a:ext cx="325440" cy="628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60720" y="1771560"/>
                    <a:ext cx="325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348000" y="220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НАР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465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4"/>
          <a:stretch/>
        </p:blipFill>
        <p:spPr>
          <a:xfrm>
            <a:off x="4213080" y="4219560"/>
            <a:ext cx="325440" cy="628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5"/>
          <a:stretch/>
        </p:blipFill>
        <p:spPr>
          <a:xfrm>
            <a:off x="4500720" y="3933720"/>
            <a:ext cx="741240" cy="801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24920" y="346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8307360" y="2743200"/>
            <a:ext cx="741240" cy="80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35280" y="35733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б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645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 ба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евой порядок артиллерийской батар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41440" y="2997360"/>
            <a:ext cx="282600" cy="776880"/>
            <a:chOff x="541440" y="2997360"/>
            <a:chExt cx="282600" cy="776880"/>
          </a:xfrm>
        </p:grpSpPr>
        <p:sp>
          <p:nvSpPr>
            <p:cNvPr id="129" name=""/>
            <p:cNvSpPr/>
            <p:nvPr/>
          </p:nvSpPr>
          <p:spPr>
            <a:xfrm>
              <a:off x="644760" y="2997360"/>
              <a:ext cx="179280" cy="77580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60240" y="3025080"/>
              <a:ext cx="145800" cy="15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72400" y="3754440"/>
              <a:ext cx="137160" cy="19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41440" y="3628440"/>
              <a:ext cx="122400" cy="6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41440" y="3504240"/>
              <a:ext cx="131760" cy="10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646560" y="3242880"/>
              <a:ext cx="141480" cy="475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71040" y="3140280"/>
              <a:ext cx="108720" cy="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601920" y="3356640"/>
              <a:ext cx="113760" cy="36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61240" y="3988080"/>
            <a:ext cx="321480" cy="807120"/>
            <a:chOff x="561240" y="3988080"/>
            <a:chExt cx="321480" cy="807120"/>
          </a:xfrm>
        </p:grpSpPr>
        <p:sp>
          <p:nvSpPr>
            <p:cNvPr id="138" name=""/>
            <p:cNvSpPr/>
            <p:nvPr/>
          </p:nvSpPr>
          <p:spPr>
            <a:xfrm rot="21057000">
              <a:off x="643320" y="39970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05520" y="4018680"/>
              <a:ext cx="141840" cy="38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4320" y="4754160"/>
              <a:ext cx="132120" cy="410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1760" y="4636800"/>
              <a:ext cx="119880" cy="262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61240" y="45234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623880" y="4258440"/>
              <a:ext cx="147240" cy="24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31800" y="4136400"/>
              <a:ext cx="10764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97600" y="4377600"/>
              <a:ext cx="118080" cy="180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93920" y="1968840"/>
            <a:ext cx="329760" cy="811800"/>
            <a:chOff x="493920" y="1968840"/>
            <a:chExt cx="329760" cy="811800"/>
          </a:xfrm>
        </p:grpSpPr>
        <p:sp>
          <p:nvSpPr>
            <p:cNvPr id="147" name=""/>
            <p:cNvSpPr/>
            <p:nvPr/>
          </p:nvSpPr>
          <p:spPr>
            <a:xfrm rot="20918400">
              <a:off x="569520" y="197856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18760" y="1999800"/>
              <a:ext cx="140040" cy="439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77440" y="2734200"/>
              <a:ext cx="130320" cy="46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9480" y="2619360"/>
              <a:ext cx="118800" cy="31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920" y="2506320"/>
              <a:ext cx="131040" cy="158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45040" y="2244600"/>
              <a:ext cx="148320" cy="18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49000" y="2117880"/>
              <a:ext cx="106560" cy="22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523800" y="2364840"/>
              <a:ext cx="118800" cy="133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5440" y="981000"/>
            <a:ext cx="282600" cy="777600"/>
            <a:chOff x="325440" y="981000"/>
            <a:chExt cx="282600" cy="777600"/>
          </a:xfrm>
        </p:grpSpPr>
        <p:sp>
          <p:nvSpPr>
            <p:cNvPr id="156" name=""/>
            <p:cNvSpPr/>
            <p:nvPr/>
          </p:nvSpPr>
          <p:spPr>
            <a:xfrm>
              <a:off x="428760" y="9810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44240" y="1009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56400" y="1738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5440" y="1612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325440" y="1488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430560" y="1226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5040" y="1124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85920" y="1340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2760" y="4947480"/>
            <a:ext cx="465840" cy="794880"/>
            <a:chOff x="392760" y="4947480"/>
            <a:chExt cx="465840" cy="794880"/>
          </a:xfrm>
        </p:grpSpPr>
        <p:sp>
          <p:nvSpPr>
            <p:cNvPr id="165" name=""/>
            <p:cNvSpPr/>
            <p:nvPr/>
          </p:nvSpPr>
          <p:spPr>
            <a:xfrm rot="1009800">
              <a:off x="570600" y="495648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689040" y="4993560"/>
              <a:ext cx="144360" cy="27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92760" y="5670720"/>
              <a:ext cx="136800" cy="20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03200" y="5528880"/>
              <a:ext cx="119520" cy="28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41360" y="5403600"/>
              <a:ext cx="12276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17760" y="5183280"/>
              <a:ext cx="121320" cy="864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70320" y="5092920"/>
              <a:ext cx="104400" cy="309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542160" y="5279040"/>
              <a:ext cx="98280" cy="676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6360" y="5862600"/>
            <a:ext cx="282600" cy="777600"/>
            <a:chOff x="306360" y="5862600"/>
            <a:chExt cx="282600" cy="777600"/>
          </a:xfrm>
        </p:grpSpPr>
        <p:sp>
          <p:nvSpPr>
            <p:cNvPr id="174" name=""/>
            <p:cNvSpPr/>
            <p:nvPr/>
          </p:nvSpPr>
          <p:spPr>
            <a:xfrm>
              <a:off x="409680" y="586260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25160" y="58906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7320" y="66200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06360" y="64940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6360" y="63702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411480" y="61081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35960" y="60058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66840" y="62218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5440" y="0"/>
            <a:ext cx="282600" cy="777600"/>
            <a:chOff x="325440" y="0"/>
            <a:chExt cx="282600" cy="777600"/>
          </a:xfrm>
        </p:grpSpPr>
        <p:sp>
          <p:nvSpPr>
            <p:cNvPr id="183" name=""/>
            <p:cNvSpPr/>
            <p:nvPr/>
          </p:nvSpPr>
          <p:spPr>
            <a:xfrm>
              <a:off x="428760" y="0"/>
              <a:ext cx="179280" cy="776160"/>
            </a:xfrm>
            <a:custGeom>
              <a:avLst/>
              <a:gdLst/>
              <a:ahLst/>
              <a:rect l="l" t="t" r="r" b="b"/>
              <a:pathLst>
                <a:path w="113" h="489">
                  <a:moveTo>
                    <a:pt x="87" y="0"/>
                  </a:moveTo>
                  <a:cubicBezTo>
                    <a:pt x="99" y="50"/>
                    <a:pt x="113" y="100"/>
                    <a:pt x="101" y="157"/>
                  </a:cubicBezTo>
                  <a:cubicBezTo>
                    <a:pt x="89" y="213"/>
                    <a:pt x="24" y="283"/>
                    <a:pt x="12" y="338"/>
                  </a:cubicBezTo>
                  <a:cubicBezTo>
                    <a:pt x="0" y="393"/>
                    <a:pt x="27" y="458"/>
                    <a:pt x="31" y="489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44240" y="28080"/>
              <a:ext cx="145800" cy="154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6400" y="757440"/>
              <a:ext cx="137160" cy="201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25440" y="631440"/>
              <a:ext cx="122400" cy="72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25440" y="507600"/>
              <a:ext cx="131760" cy="10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30560" y="245520"/>
              <a:ext cx="141480" cy="478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55040" y="143280"/>
              <a:ext cx="108720" cy="7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85920" y="359280"/>
              <a:ext cx="113760" cy="3636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973080" y="836640"/>
            <a:ext cx="7201080" cy="2455920"/>
            <a:chOff x="973080" y="836640"/>
            <a:chExt cx="7201080" cy="245592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7308720" y="234792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3" name=""/>
            <p:cNvGraphicFramePr/>
            <p:nvPr/>
          </p:nvGraphicFramePr>
          <p:xfrm>
            <a:off x="3276720" y="836640"/>
            <a:ext cx="595080" cy="749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836640"/>
                      <a:ext cx="59508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"/>
            <p:cNvGraphicFramePr/>
            <p:nvPr/>
          </p:nvGraphicFramePr>
          <p:xfrm>
            <a:off x="2989440" y="1123920"/>
            <a:ext cx="325440" cy="628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9440" y="1123920"/>
                      <a:ext cx="32544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3348000" y="1844640"/>
            <a:ext cx="750960" cy="878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48000" y="184464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3851280" y="2421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973080" y="1198440"/>
            <a:ext cx="750960" cy="878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73080" y="119844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1476360" y="1773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08360" y="1341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1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48360" y="292428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евой порядок артиллерийского дивиз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044720" y="4365720"/>
            <a:ext cx="7057800" cy="2493720"/>
            <a:chOff x="1044720" y="4365720"/>
            <a:chExt cx="7057800" cy="2493720"/>
          </a:xfrm>
        </p:grpSpPr>
        <p:pic>
          <p:nvPicPr>
            <p:cNvPr id="207" name="" descr=""/>
            <p:cNvPicPr/>
            <p:nvPr/>
          </p:nvPicPr>
          <p:blipFill>
            <a:blip r:embed="rId10"/>
            <a:stretch/>
          </p:blipFill>
          <p:spPr>
            <a:xfrm>
              <a:off x="7237440" y="458136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08" name=""/>
            <p:cNvGraphicFramePr/>
            <p:nvPr/>
          </p:nvGraphicFramePr>
          <p:xfrm>
            <a:off x="3852720" y="4940280"/>
            <a:ext cx="595440" cy="749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52720" y="4940280"/>
                      <a:ext cx="59544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0" name=""/>
            <p:cNvGraphicFramePr/>
            <p:nvPr/>
          </p:nvGraphicFramePr>
          <p:xfrm>
            <a:off x="3565440" y="5227560"/>
            <a:ext cx="325440" cy="628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65440" y="5227560"/>
                      <a:ext cx="32544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2" name=""/>
            <p:cNvGraphicFramePr/>
            <p:nvPr/>
          </p:nvGraphicFramePr>
          <p:xfrm>
            <a:off x="2989440" y="5915160"/>
            <a:ext cx="750600" cy="877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89440" y="5915160"/>
                      <a:ext cx="7506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"/>
            <p:cNvSpPr/>
            <p:nvPr/>
          </p:nvSpPr>
          <p:spPr>
            <a:xfrm>
              <a:off x="3492360" y="6491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1044720" y="5589720"/>
            <a:ext cx="750600" cy="877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044720" y="5589720"/>
                      <a:ext cx="7506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1547640" y="6165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84720" y="544500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3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7080" y="43657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26920" y="2421000"/>
            <a:ext cx="1224000" cy="871560"/>
            <a:chOff x="826920" y="2421000"/>
            <a:chExt cx="1224000" cy="871560"/>
          </a:xfrm>
        </p:grpSpPr>
        <p:pic>
          <p:nvPicPr>
            <p:cNvPr id="221" name="" descr=""/>
            <p:cNvPicPr/>
            <p:nvPr/>
          </p:nvPicPr>
          <p:blipFill>
            <a:blip r:embed="rId19"/>
            <a:stretch/>
          </p:blipFill>
          <p:spPr>
            <a:xfrm>
              <a:off x="826920" y="2565360"/>
              <a:ext cx="325440" cy="628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2" name=""/>
            <p:cNvGraphicFramePr/>
            <p:nvPr/>
          </p:nvGraphicFramePr>
          <p:xfrm>
            <a:off x="1000080" y="2719440"/>
            <a:ext cx="576360" cy="3175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000080" y="2719440"/>
                      <a:ext cx="57636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"/>
            <p:cNvSpPr/>
            <p:nvPr/>
          </p:nvSpPr>
          <p:spPr>
            <a:xfrm>
              <a:off x="1116000" y="292428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4210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п-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5076720" y="2349360"/>
          <a:ext cx="777960" cy="1079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076720" y="2349360"/>
                    <a:ext cx="7779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24"/>
          <a:stretch/>
        </p:blipFill>
        <p:spPr>
          <a:xfrm>
            <a:off x="4788000" y="2924280"/>
            <a:ext cx="325440" cy="628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210280" y="333540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/7 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2852640"/>
            <a:ext cx="7631280" cy="2529000"/>
            <a:chOff x="1116000" y="2852640"/>
            <a:chExt cx="7631280" cy="2529000"/>
          </a:xfrm>
        </p:grpSpPr>
        <p:graphicFrame>
          <p:nvGraphicFramePr>
            <p:cNvPr id="231" name=""/>
            <p:cNvGraphicFramePr/>
            <p:nvPr/>
          </p:nvGraphicFramePr>
          <p:xfrm>
            <a:off x="2484360" y="4437000"/>
            <a:ext cx="750960" cy="878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484360" y="4437000"/>
                      <a:ext cx="750960" cy="87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8764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0000" y="3573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2 ба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3706920" y="2852640"/>
            <a:ext cx="595080" cy="7495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706920" y="2852640"/>
                      <a:ext cx="595080" cy="7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7" name="" descr=""/>
            <p:cNvPicPr/>
            <p:nvPr/>
          </p:nvPicPr>
          <p:blipFill>
            <a:blip r:embed="rId29"/>
            <a:stretch/>
          </p:blipFill>
          <p:spPr>
            <a:xfrm>
              <a:off x="8205840" y="3502080"/>
              <a:ext cx="54144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8" name=""/>
            <p:cNvGraphicFramePr/>
            <p:nvPr/>
          </p:nvGraphicFramePr>
          <p:xfrm>
            <a:off x="3419640" y="3139920"/>
            <a:ext cx="325440" cy="62892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3419640" y="3139920"/>
                      <a:ext cx="325440" cy="62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1116000" y="3502080"/>
            <a:ext cx="750960" cy="87768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1116000" y="3502080"/>
                      <a:ext cx="75096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2" name=""/>
            <p:cNvSpPr/>
            <p:nvPr/>
          </p:nvSpPr>
          <p:spPr>
            <a:xfrm>
              <a:off x="1619280" y="40784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н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51640" y="3645000"/>
              <a:ext cx="12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4" name=""/>
          <p:cNvGraphicFramePr/>
          <p:nvPr/>
        </p:nvGraphicFramePr>
        <p:xfrm>
          <a:off x="2989440" y="3716280"/>
          <a:ext cx="750600" cy="8780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2989440" y="3716280"/>
                    <a:ext cx="7506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492360" y="4292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524720" y="3284640"/>
          <a:ext cx="385920" cy="85392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7524720" y="3284640"/>
                    <a:ext cx="385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7236000" y="407664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/7 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08360" y="2637000"/>
            <a:ext cx="7164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667640" y="3933360"/>
            <a:ext cx="100800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40360" y="2492280"/>
            <a:ext cx="93492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8"/>
          <a:stretch/>
        </p:blipFill>
        <p:spPr>
          <a:xfrm>
            <a:off x="7885080" y="2421000"/>
            <a:ext cx="741240" cy="80172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2052720" y="2655720"/>
            <a:ext cx="1582560" cy="854280"/>
            <a:chOff x="2052720" y="2655720"/>
            <a:chExt cx="1582560" cy="854280"/>
          </a:xfrm>
        </p:grpSpPr>
        <p:sp>
          <p:nvSpPr>
            <p:cNvPr id="255" name=""/>
            <p:cNvSpPr/>
            <p:nvPr/>
          </p:nvSpPr>
          <p:spPr>
            <a:xfrm>
              <a:off x="2340000" y="3141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СНАР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9"/>
            <a:stretch/>
          </p:blipFill>
          <p:spPr>
            <a:xfrm>
              <a:off x="2411280" y="2655720"/>
              <a:ext cx="62100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0"/>
            <a:stretch/>
          </p:blipFill>
          <p:spPr>
            <a:xfrm>
              <a:off x="2052720" y="2708280"/>
              <a:ext cx="32544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7848720" y="306864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К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1"/>
          <a:stretch/>
        </p:blipFill>
        <p:spPr>
          <a:xfrm>
            <a:off x="7885080" y="2349360"/>
            <a:ext cx="741240" cy="801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2">
            <a:lum contrast="12000"/>
          </a:blip>
          <a:stretch/>
        </p:blipFill>
        <p:spPr>
          <a:xfrm rot="21224400">
            <a:off x="5651640" y="836280"/>
            <a:ext cx="396720" cy="7221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3">
            <a:lum contrast="12000"/>
          </a:blip>
          <a:stretch/>
        </p:blipFill>
        <p:spPr>
          <a:xfrm rot="21224400">
            <a:off x="6351480" y="6033600"/>
            <a:ext cx="397080" cy="722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H="1" flipV="1">
            <a:off x="6012360" y="1434600"/>
            <a:ext cx="647640" cy="4726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6237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ПЗ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83664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47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8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720" y="549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616572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0072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4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659280" y="836280"/>
            <a:ext cx="73080" cy="5545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6200000">
            <a:off x="5908680" y="2884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1,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724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330880" y="620640"/>
            <a:ext cx="71280" cy="583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43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3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0:02:26Z</dcterms:created>
  <dc:creator>Виктор Ф.</dc:creator>
  <dc:description/>
  <dc:language>en-US</dc:language>
  <cp:lastModifiedBy>Виктор Ф.</cp:lastModifiedBy>
  <dcterms:modified xsi:type="dcterms:W3CDTF">2007-12-17T12:13:00Z</dcterms:modified>
  <cp:revision>6</cp:revision>
  <dc:subject/>
  <dc:title>Слайд 1</dc:title>
</cp:coreProperties>
</file>